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5.jpeg" ContentType="image/jpeg"/>
  <Override PartName="/ppt/media/image4.jpeg" ContentType="image/jpeg"/>
  <Override PartName="/ppt/media/image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3F3F-76F2-4271-A5ED-77D0D336C38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ckbl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74C-F5FD-4D7C-A3A6-7F1E2959CC4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5C1-78B6-45F0-A122-C9CA7C4A90F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82E-FD3B-4992-B89B-2886D2F6E0D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vollbrennwerttechnik.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90E-FAA5-4A82-B7E6-63D3379C4E4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A1E-E5D3-46D9-8511-3CCBEE32B76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gida.de/testcenter/physik/phys-dvd003/aufgabe_02.ht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Resublimi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05D-A4F1-482C-AFB4-C2750CD18C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BC2C-7FC3-4591-B0DA-F8CC666C792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3607-C24B-4D09-BF70-BD178787BE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de.wikipedia.org/wiki/F%C3%BChlbare_W%C3%A4rm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eiz-tipp.de/lexikon-251-latente_waer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901-0890-42E9-BD85-68C0DDAA115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erdunstungs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C325-12F2-4BC6-80B7-455F42BF06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FBE5-ED7F-4165-BCD8-CFDFB72228B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brennwerttechni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: google Bilder 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AA8C-1DFF-492E-8F04-DF8B2CA6297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 der Heizungsinstallateur Seite 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929-1FCC-4472-8D78-0F09362142C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ld aus Buch: Der Sanitärinstallateur Seite 4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ABE-7E9B-406A-8AB6-CCA74C61920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Sanitär Installateur S.4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0178-8F5F-49D0-A126-81D01CAE0D3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2BD1-ECB8-4D53-981B-E289FA5043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ch: Der Heizungsinstallat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E7F0-6C1C-4B72-A7D4-B999FA5A93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haag-ortner.de/heizung/olgas-brennwerttechnik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4E23-F1C3-427F-9F0D-2A332A6D187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www.brennwert.info/index.asp?art=vorteile_brennwer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32E-F85A-46E5-A1A6-3A9CE11A06F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Taschenbuch der Umwelttech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n Karl Schw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ttp://books.google.de/books?id=pno_TqukH7UC&amp;pg=PA442&amp;lpg=PA442&amp;dq=Typische+Wirkungsgrade+im+Vergleich+taschenbuch+der+umwelttechnik&amp;source=bl&amp;ots=Oii1n6GWfR&amp;sig=ocFr1Z4n3-23RGzoU4dMx847jB8&amp;hl=de&amp;ei=-_DBS7bnGsWvOL3NuZcE&amp;sa=X&amp;oi=book_result&amp;ct=result&amp;resnum=1&amp;ved=0CAYQ6AEwAA#v=onepage&amp;q&amp;f=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7B19-75CB-4219-A5FE-B3FCECBF822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DA6-BAC8-4CE9-AA30-8FFCA095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079-F789-4E78-8A0D-7C23497A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B5B-3667-4F53-8526-A957AFEE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3CD-6E36-4DD7-BC37-7200A28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369-4870-47FF-A66C-38B9C96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9E1-EA29-4E9E-92BD-EF0AAAC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840-68BB-45FD-AC46-C77205F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226-B0D1-465D-95B2-8452F8C1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CC3-471D-40B0-8963-686696B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5D5-7F65-42DF-9781-A8B7D13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97F-9A95-4202-849E-08420DF2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249-77F8-4464-B7B6-2810A68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C1F-6C4F-4A2D-9776-1337EE8BC2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rennwerttechnik.mo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rennwertkessel" TargetMode="External"/><Relationship Id="rId2" Type="http://schemas.openxmlformats.org/officeDocument/2006/relationships/hyperlink" Target="http://www.vollbrennwerttechnik.de/home/home.html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Brennwerttechni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4" descr="2569_0.jpg"/>
          <p:cNvPicPr/>
          <p:nvPr/>
        </p:nvPicPr>
        <p:blipFill>
          <a:blip r:embed="rId1"/>
          <a:stretch/>
        </p:blipFill>
        <p:spPr>
          <a:xfrm rot="21241200">
            <a:off x="934920" y="2506680"/>
            <a:ext cx="3027600" cy="3027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5" descr="vitolaplus300.jpg"/>
          <p:cNvPicPr/>
          <p:nvPr/>
        </p:nvPicPr>
        <p:blipFill>
          <a:blip r:embed="rId2"/>
          <a:stretch/>
        </p:blipFill>
        <p:spPr>
          <a:xfrm rot="174600">
            <a:off x="5146200" y="2862360"/>
            <a:ext cx="310212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357120" y="59292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S T-2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Jahrgang: 2009/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elche Arten von Brennwertgeräten gibt 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214200" y="164304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Gas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Öl-Brennwertkessel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rennwertthe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eststoff-Brennwertkes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5" descr="p437_Oel-Brennwertkessel-Buderus-GB125-BE-30kW_1-1.jpg"/>
          <p:cNvPicPr/>
          <p:nvPr/>
        </p:nvPicPr>
        <p:blipFill>
          <a:blip r:embed="rId1"/>
          <a:stretch/>
        </p:blipFill>
        <p:spPr>
          <a:xfrm>
            <a:off x="6143760" y="3000240"/>
            <a:ext cx="18414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Grafik 6" descr="1706-buderus1.gif"/>
          <p:cNvPicPr/>
          <p:nvPr/>
        </p:nvPicPr>
        <p:blipFill>
          <a:blip r:embed="rId2"/>
          <a:stretch/>
        </p:blipFill>
        <p:spPr>
          <a:xfrm>
            <a:off x="6143760" y="1214280"/>
            <a:ext cx="182232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p4-pellet-15_kondensat-wt-406x550.jpg"/>
          <p:cNvPicPr/>
          <p:nvPr/>
        </p:nvPicPr>
        <p:blipFill>
          <a:blip r:embed="rId3"/>
          <a:stretch/>
        </p:blipFill>
        <p:spPr>
          <a:xfrm>
            <a:off x="6143760" y="4857840"/>
            <a:ext cx="1857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o kommen Brennwertgeräte zum Einsatz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feld 2"/>
          <p:cNvSpPr/>
          <p:nvPr/>
        </p:nvSpPr>
        <p:spPr>
          <a:xfrm>
            <a:off x="214200" y="19288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Ein- und Mehrfamilienhäus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Wohn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 großen Gebäudekomple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Chem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afik 3" descr="chemie.jpg"/>
          <p:cNvPicPr/>
          <p:nvPr/>
        </p:nvPicPr>
        <p:blipFill>
          <a:blip r:embed="rId1"/>
          <a:stretch/>
        </p:blipFill>
        <p:spPr>
          <a:xfrm rot="21411600">
            <a:off x="869760" y="265572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Grafik 5" descr="chemiker.gif"/>
          <p:cNvPicPr/>
          <p:nvPr/>
        </p:nvPicPr>
        <p:blipFill>
          <a:blip r:embed="rId2"/>
          <a:stretch/>
        </p:blipFill>
        <p:spPr>
          <a:xfrm rot="266400">
            <a:off x="5346360" y="2536920"/>
            <a:ext cx="29289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1"/>
          <p:cNvSpPr/>
          <p:nvPr/>
        </p:nvSpPr>
        <p:spPr>
          <a:xfrm>
            <a:off x="214200" y="357120"/>
            <a:ext cx="87156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Heizwert und Brennwert</a:t>
            </a:r>
            <a:br>
              <a:rPr sz="32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Man unterscheidet bei allen Brennstoffen zwei Werte für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nutzbare Wärmemenge: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d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unteren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Heizwert und den oberen 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de-DE" sz="2400" spc="-1" strike="noStrike">
                <a:solidFill>
                  <a:srgbClr val="ff0000"/>
                </a:solidFill>
                <a:latin typeface="Calibri"/>
              </a:rPr>
              <a:t>       Heizwert (Brennwert)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Heiz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rd nur die fühlbare Wärme berücksichtigt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sich als Temperaturerhöhung messen läss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Calibri"/>
              </a:rPr>
              <a:t>Beim Brennwert</a:t>
            </a:r>
            <a:r>
              <a:rPr b="0" lang="de-DE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e Wärme eingeschlossen, die im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dampfanteil der Abgase versteckt ist (latente Energie).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se lässt sich nicht als Temperaturerhöhung messen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im Öl macht dies einen Energiezugewinn von ca. 6%, beim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ca. 11% des Heizwertes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ie können Wirkungsgrade über 100% zustande komm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afik 2" descr="Feuerungstechnischer wirkungsgrad.jpg"/>
          <p:cNvPicPr/>
          <p:nvPr/>
        </p:nvPicPr>
        <p:blipFill>
          <a:blip r:embed="rId1"/>
          <a:srcRect l="0" t="0" r="20509" b="79159"/>
          <a:stretch/>
        </p:blipFill>
        <p:spPr>
          <a:xfrm>
            <a:off x="1428840" y="3357720"/>
            <a:ext cx="616896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feld 3"/>
          <p:cNvSpPr/>
          <p:nvPr/>
        </p:nvSpPr>
        <p:spPr>
          <a:xfrm>
            <a:off x="1285920" y="1714680"/>
            <a:ext cx="6286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Abgasverluste in %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= Wärmegewinn aus Brennwertnutzung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2" descr="brennwert.gif"/>
          <p:cNvPicPr/>
          <p:nvPr/>
        </p:nvPicPr>
        <p:blipFill>
          <a:blip r:embed="rId1"/>
          <a:stretch/>
        </p:blipFill>
        <p:spPr>
          <a:xfrm>
            <a:off x="642960" y="1571760"/>
            <a:ext cx="794052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an Heiz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ggregatzustände von Wass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87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eden, Erstarren, Kondensieren, Sublimieren, Schmelzen, 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lö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2" descr="aggregatzustaende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396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Textfeld 3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Schmelzen, 2.Erstarren, 3.Sieden, 4.Kondensieren, 5.Sublimieren, 6.Resublim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von Erdgas und Erdö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fik 5" descr="546.gif"/>
          <p:cNvPicPr/>
          <p:nvPr/>
        </p:nvPicPr>
        <p:blipFill>
          <a:blip r:embed="rId1"/>
          <a:srcRect l="16361" t="0" r="-2446" b="0"/>
          <a:stretch/>
        </p:blipFill>
        <p:spPr>
          <a:xfrm>
            <a:off x="357120" y="2857680"/>
            <a:ext cx="5286600" cy="2006280"/>
          </a:xfrm>
          <a:prstGeom prst="rect">
            <a:avLst/>
          </a:prstGeom>
          <a:ln w="0">
            <a:noFill/>
          </a:ln>
        </p:spPr>
      </p:pic>
      <p:pic>
        <p:nvPicPr>
          <p:cNvPr id="93" name="Grafik 6" descr="Bild1ddsf.gif"/>
          <p:cNvPicPr/>
          <p:nvPr/>
        </p:nvPicPr>
        <p:blipFill>
          <a:blip r:embed="rId2"/>
          <a:srcRect l="34804" t="0" r="0" b="0"/>
          <a:stretch/>
        </p:blipFill>
        <p:spPr>
          <a:xfrm>
            <a:off x="6357960" y="2857680"/>
            <a:ext cx="2165400" cy="2000160"/>
          </a:xfrm>
          <a:prstGeom prst="rect">
            <a:avLst/>
          </a:prstGeom>
          <a:ln w="0">
            <a:noFill/>
          </a:ln>
        </p:spPr>
      </p:pic>
      <p:sp>
        <p:nvSpPr>
          <p:cNvPr id="94" name="Textfeld 7"/>
          <p:cNvSpPr/>
          <p:nvPr/>
        </p:nvSpPr>
        <p:spPr>
          <a:xfrm>
            <a:off x="714240" y="221472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 Erdö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8"/>
          <p:cNvSpPr/>
          <p:nvPr/>
        </p:nvSpPr>
        <p:spPr>
          <a:xfrm>
            <a:off x="6429240" y="164304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Beispiel</a:t>
            </a:r>
            <a:br>
              <a:rPr sz="3600"/>
            </a:br>
            <a:r>
              <a:rPr b="0" i="1" lang="de-DE" sz="3600" spc="-1" strike="noStrike">
                <a:solidFill>
                  <a:srgbClr val="000000"/>
                </a:solidFill>
                <a:latin typeface="Calibri"/>
              </a:rPr>
              <a:t>Erd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Zusammensetzung der Abg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2"/>
          <p:cNvSpPr/>
          <p:nvPr/>
        </p:nvSpPr>
        <p:spPr>
          <a:xfrm>
            <a:off x="214200" y="1225440"/>
            <a:ext cx="87156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Fossile Energieträger wie Erdöl bzw. Erdgas bestehen zu über 90% aus Verbindungen von Kohlenstoffatomen und Wasserstoffatomen. Diese Atome sind auch nach der Verbrennung noch da.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Verbrennung ist eine Umgruppierung der Atomen. </a:t>
            </a:r>
            <a:br>
              <a:rPr sz="2400"/>
            </a:br>
            <a:r>
              <a:rPr b="0" i="1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Sauerstoffatome aus der Luft verbinden sich mit Kohlenstoffatomen und Wasserstoffatomen z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ohlendiox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Wasserdampf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So entstehen bei der Verbrennung von 1 Liter Heizöl etwa 2,6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 und bei der Verbrennung von 1 Kubikmeter Erdgas rund 2 kg CO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2"/>
          <p:cNvSpPr/>
          <p:nvPr/>
        </p:nvSpPr>
        <p:spPr>
          <a:xfrm>
            <a:off x="642960" y="15001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Video Brennwert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Chem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Technische Grundlagen</a:t>
            </a:r>
            <a:br>
              <a:rPr sz="3200"/>
            </a:b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262626"/>
                </a:solidFill>
                <a:latin typeface="Calibri"/>
              </a:rPr>
              <a:t>Matheaufg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auf den CO</a:t>
            </a:r>
            <a:r>
              <a:rPr b="1" i="1" lang="de-DE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- Ge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Grafik 2" descr="taupunkt.gif"/>
          <p:cNvPicPr/>
          <p:nvPr/>
        </p:nvPicPr>
        <p:blipFill>
          <a:blip r:embed="rId1"/>
          <a:stretch/>
        </p:blipFill>
        <p:spPr>
          <a:xfrm>
            <a:off x="1357200" y="1071720"/>
            <a:ext cx="6429600" cy="4730760"/>
          </a:xfrm>
          <a:prstGeom prst="rect">
            <a:avLst/>
          </a:prstGeom>
          <a:ln w="0">
            <a:noFill/>
          </a:ln>
        </p:spPr>
      </p:pic>
      <p:sp>
        <p:nvSpPr>
          <p:cNvPr id="100" name="Textfeld 3"/>
          <p:cNvSpPr/>
          <p:nvPr/>
        </p:nvSpPr>
        <p:spPr>
          <a:xfrm>
            <a:off x="0" y="5715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CO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- Gehalt gibt nun Aufschluss über den Taupunkt der Abgas.</a:t>
            </a: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hermischer Auftr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2"/>
          <p:cNvSpPr/>
          <p:nvPr/>
        </p:nvSpPr>
        <p:spPr>
          <a:xfrm>
            <a:off x="571680" y="164304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or“ der natürlichen Lüf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hängig von der Abgastemperatur und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bäudehöhe (Abgasw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kann der thermische Auftri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r gering genu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Brennwertgeräten ist ein zusätzl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gasventilator nö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afik 3" descr="1206_1.jpg"/>
          <p:cNvPicPr/>
          <p:nvPr/>
        </p:nvPicPr>
        <p:blipFill>
          <a:blip r:embed="rId1"/>
          <a:stretch/>
        </p:blipFill>
        <p:spPr>
          <a:xfrm rot="788400">
            <a:off x="7052760" y="482076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4" descr="schornsteinschacht.gif"/>
          <p:cNvPicPr/>
          <p:nvPr/>
        </p:nvPicPr>
        <p:blipFill>
          <a:blip r:embed="rId2"/>
          <a:stretch/>
        </p:blipFill>
        <p:spPr>
          <a:xfrm rot="21369600">
            <a:off x="7279920" y="1336320"/>
            <a:ext cx="15890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2" descr="Pysikalische Zusammensetzung.jpg"/>
          <p:cNvPicPr/>
          <p:nvPr/>
        </p:nvPicPr>
        <p:blipFill>
          <a:blip r:embed="rId1"/>
          <a:srcRect l="11719" t="4973" r="23073" b="36055"/>
          <a:stretch/>
        </p:blipFill>
        <p:spPr>
          <a:xfrm>
            <a:off x="1428840" y="1571760"/>
            <a:ext cx="630540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3"/>
          <p:cNvSpPr/>
          <p:nvPr/>
        </p:nvSpPr>
        <p:spPr>
          <a:xfrm>
            <a:off x="0" y="0"/>
            <a:ext cx="95727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r Verbrennungsvorgang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alibri"/>
              </a:rPr>
              <a:t>Allgemeine Reaktionsgleichung: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nC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y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m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→ pCO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+ qH</a:t>
            </a:r>
            <a:r>
              <a:rPr b="1" lang="de-DE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4"/>
          <p:cNvSpPr/>
          <p:nvPr/>
        </p:nvSpPr>
        <p:spPr>
          <a:xfrm>
            <a:off x="1357200" y="5929200"/>
            <a:ext cx="778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gas (Methan): C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+ 2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Erdöl (Dekan): 2 C10H22 + 31 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22 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O + 20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</a:rPr>
              <a:t>2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Stoff- und Energiefl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Grafik 3" descr="Bild_Grafik_Gas_Brennwertkessel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11760" cy="4500720"/>
          </a:xfrm>
          <a:prstGeom prst="rect">
            <a:avLst/>
          </a:prstGeom>
          <a:ln w="0">
            <a:noFill/>
          </a:ln>
        </p:spPr>
      </p:pic>
      <p:cxnSp>
        <p:nvCxnSpPr>
          <p:cNvPr id="110" name="Gewinkelte Verbindung 5"/>
          <p:cNvCxnSpPr>
            <a:stCxn id="111" idx="3"/>
          </p:cNvCxnSpPr>
          <p:nvPr/>
        </p:nvCxnSpPr>
        <p:spPr>
          <a:xfrm>
            <a:off x="713880" y="2255760"/>
            <a:ext cx="3287160" cy="1977120"/>
          </a:xfrm>
          <a:prstGeom prst="curvedConnector5">
            <a:avLst>
              <a:gd name="adj1" fmla="val 37995"/>
              <a:gd name="adj2" fmla="val 49990"/>
              <a:gd name="adj3" fmla="val 37995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1" name="Textfeld 17"/>
          <p:cNvSpPr/>
          <p:nvPr/>
        </p:nvSpPr>
        <p:spPr>
          <a:xfrm>
            <a:off x="285840" y="207180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56"/>
          <p:cNvCxnSpPr>
            <a:stCxn id="113" idx="1"/>
          </p:cNvCxnSpPr>
          <p:nvPr/>
        </p:nvCxnSpPr>
        <p:spPr>
          <a:xfrm flipH="1">
            <a:off x="4285440" y="2611800"/>
            <a:ext cx="4072680" cy="8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3" name="Textfeld 60"/>
          <p:cNvSpPr/>
          <p:nvPr/>
        </p:nvSpPr>
        <p:spPr>
          <a:xfrm>
            <a:off x="8358120" y="2428920"/>
            <a:ext cx="42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Gerade Verbindung mit Pfeil 65"/>
          <p:cNvCxnSpPr>
            <a:stCxn id="115" idx="1"/>
          </p:cNvCxnSpPr>
          <p:nvPr/>
        </p:nvCxnSpPr>
        <p:spPr>
          <a:xfrm flipH="1" flipV="1">
            <a:off x="5571720" y="3714480"/>
            <a:ext cx="2858400" cy="89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5" name="Textfeld 69"/>
          <p:cNvSpPr/>
          <p:nvPr/>
        </p:nvSpPr>
        <p:spPr>
          <a:xfrm>
            <a:off x="8429760" y="4429080"/>
            <a:ext cx="42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4"/>
          <p:cNvSpPr/>
          <p:nvPr/>
        </p:nvSpPr>
        <p:spPr>
          <a:xfrm>
            <a:off x="214200" y="571680"/>
            <a:ext cx="5643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Fühlbare und latente Wärme</a:t>
            </a:r>
            <a:br>
              <a:rPr sz="2800"/>
            </a:b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Fühlbare Wärme: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Äußert sich durch Änderun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st direkt fühl- bzw. Messba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i="1" lang="de-DE" sz="2400" spc="-1" strike="noStrike">
                <a:solidFill>
                  <a:srgbClr val="ff0000"/>
                </a:solidFill>
                <a:latin typeface="Calibri"/>
              </a:rPr>
              <a:t>Latente Wär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teckte 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Wärmemenge, die einem 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geführt werden kann, ohne das sich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emperatur änder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k 2" descr="hot-thermometer.gif"/>
          <p:cNvPicPr/>
          <p:nvPr/>
        </p:nvPicPr>
        <p:blipFill>
          <a:blip r:embed="rId1"/>
          <a:stretch/>
        </p:blipFill>
        <p:spPr>
          <a:xfrm rot="205800">
            <a:off x="6224760" y="1196640"/>
            <a:ext cx="187308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3" descr="latent.jpg"/>
          <p:cNvPicPr/>
          <p:nvPr/>
        </p:nvPicPr>
        <p:blipFill>
          <a:blip r:embed="rId2"/>
          <a:stretch/>
        </p:blipFill>
        <p:spPr>
          <a:xfrm rot="21424800">
            <a:off x="5767200" y="4292280"/>
            <a:ext cx="3101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Beispiel zur Latenten Wär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2" descr="039387_T.JPG"/>
          <p:cNvPicPr/>
          <p:nvPr/>
        </p:nvPicPr>
        <p:blipFill>
          <a:blip r:embed="rId1"/>
          <a:stretch/>
        </p:blipFill>
        <p:spPr>
          <a:xfrm>
            <a:off x="3071880" y="2000160"/>
            <a:ext cx="3002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eigen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feld 2"/>
          <p:cNvSpPr/>
          <p:nvPr/>
        </p:nvSpPr>
        <p:spPr>
          <a:xfrm>
            <a:off x="357120" y="1500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as anfallende Kondensat enthält neben geringer Mengen an Schwermetallen (Blei, Kupfer, Nickel, Chrom, Zink) hauptsächlich Sä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Kohlen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chwefel- und schwefl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peter und salpetrige 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alzsä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er pH-Wert des Kondensates liegt zwischen 3,5 und 4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Grafik 3" descr="tnsaeur2.JPG"/>
          <p:cNvPicPr/>
          <p:nvPr/>
        </p:nvPicPr>
        <p:blipFill>
          <a:blip r:embed="rId1"/>
          <a:stretch/>
        </p:blipFill>
        <p:spPr>
          <a:xfrm>
            <a:off x="4857840" y="2786040"/>
            <a:ext cx="3897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Technische Grundl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Aufbauschema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Grafik 2" descr="Buderus GB 162.jpg"/>
          <p:cNvPicPr/>
          <p:nvPr/>
        </p:nvPicPr>
        <p:blipFill>
          <a:blip r:embed="rId1"/>
          <a:srcRect l="0" t="0" r="39553" b="37302"/>
          <a:stretch/>
        </p:blipFill>
        <p:spPr>
          <a:xfrm>
            <a:off x="1571760" y="1160640"/>
            <a:ext cx="6215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9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brwb1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llipse 1"/>
          <p:cNvSpPr/>
          <p:nvPr/>
        </p:nvSpPr>
        <p:spPr>
          <a:xfrm>
            <a:off x="2643120" y="1000080"/>
            <a:ext cx="3714840" cy="3571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_x000b_Brennwert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rafik 3" descr="teilkondensation.jpg"/>
          <p:cNvPicPr/>
          <p:nvPr/>
        </p:nvPicPr>
        <p:blipFill>
          <a:blip r:embed="rId1"/>
          <a:stretch/>
        </p:blipFill>
        <p:spPr>
          <a:xfrm>
            <a:off x="5072040" y="214200"/>
            <a:ext cx="3429000" cy="325116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4" descr="vollkondensation.jpg"/>
          <p:cNvPicPr/>
          <p:nvPr/>
        </p:nvPicPr>
        <p:blipFill>
          <a:blip r:embed="rId2"/>
          <a:stretch/>
        </p:blipFill>
        <p:spPr>
          <a:xfrm>
            <a:off x="5072040" y="3571920"/>
            <a:ext cx="3429000" cy="311292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5"/>
          <p:cNvSpPr/>
          <p:nvPr/>
        </p:nvSpPr>
        <p:spPr>
          <a:xfrm>
            <a:off x="5072040" y="214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6"/>
          <p:cNvSpPr/>
          <p:nvPr/>
        </p:nvSpPr>
        <p:spPr>
          <a:xfrm>
            <a:off x="5072040" y="3571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8"/>
          <p:cNvSpPr/>
          <p:nvPr/>
        </p:nvSpPr>
        <p:spPr>
          <a:xfrm>
            <a:off x="214200" y="214200"/>
            <a:ext cx="464364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Kondensationsarten</a:t>
            </a:r>
            <a:br>
              <a:rPr sz="3200"/>
            </a:br>
            <a:br>
              <a:rPr sz="32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keine K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über dem Taupunkt des Abgases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Tei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Rücklauftemperatur des Heizwassers liegt zwar unter dem Taupunkt, die Abgastemperatur jedoch drüber.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ollkondens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 Abgastemperatur ist niedriger als die Wasserdampf- Taupunkttemperatu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Taupun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2"/>
          <p:cNvSpPr/>
          <p:nvPr/>
        </p:nvSpPr>
        <p:spPr>
          <a:xfrm>
            <a:off x="285840" y="12142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Taupunkttemperatur der Abgase ist abhängig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CO2- Gehalt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höher der CO2- Geha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mso höher ist der Wasserdampfante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en Luftzahl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(je geringer die Luftzahl bzw. 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Luftüberschuss bei der Verbrennung, um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höher ist der Taupun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7" descr="Bilxd1.png"/>
          <p:cNvPicPr/>
          <p:nvPr/>
        </p:nvPicPr>
        <p:blipFill>
          <a:blip r:embed="rId1"/>
          <a:srcRect l="0" t="-1566" r="0" b="0"/>
          <a:stretch/>
        </p:blipFill>
        <p:spPr>
          <a:xfrm>
            <a:off x="3643200" y="0"/>
            <a:ext cx="5500800" cy="686268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8"/>
          <p:cNvSpPr/>
          <p:nvPr/>
        </p:nvSpPr>
        <p:spPr>
          <a:xfrm>
            <a:off x="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assergehalt</a:t>
            </a:r>
            <a:br>
              <a:rPr sz="3600"/>
            </a:b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des Ab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3"/>
          <p:cNvSpPr/>
          <p:nvPr/>
        </p:nvSpPr>
        <p:spPr>
          <a:xfrm>
            <a:off x="214200" y="1714680"/>
            <a:ext cx="3357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Beisp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s Bild zeigt den Wassergehalt und den Taupunkt des Abgases bei der Verbrennung von Erd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- Gehalt=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sergehalt = 15%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Taupunkt = 5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Abgastaupunkt in Abhängigkeit von der Luftz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3" descr="Unbenannt.jpg"/>
          <p:cNvPicPr/>
          <p:nvPr/>
        </p:nvPicPr>
        <p:blipFill>
          <a:blip r:embed="rId1"/>
          <a:srcRect l="0" t="0" r="48346" b="54293"/>
          <a:stretch/>
        </p:blipFill>
        <p:spPr>
          <a:xfrm>
            <a:off x="1143000" y="1000080"/>
            <a:ext cx="703260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4"/>
          <p:cNvSpPr/>
          <p:nvPr/>
        </p:nvSpPr>
        <p:spPr>
          <a:xfrm>
            <a:off x="2000160" y="6215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Formel:  λ=CO2max/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Wie erreicht man geringe Rücklauftemperatur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2"/>
          <p:cNvSpPr/>
          <p:nvPr/>
        </p:nvSpPr>
        <p:spPr>
          <a:xfrm>
            <a:off x="571680" y="1928880"/>
            <a:ext cx="771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von Heizflächen, die für niedrige Temperaturen ausgelegt sind wie z.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ußbod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ndflächenhei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fussbodenheizung.jpg"/>
          <p:cNvPicPr/>
          <p:nvPr/>
        </p:nvPicPr>
        <p:blipFill>
          <a:blip r:embed="rId1"/>
          <a:stretch/>
        </p:blipFill>
        <p:spPr>
          <a:xfrm>
            <a:off x="5614920" y="3632040"/>
            <a:ext cx="2927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Matheaufgaben </a:t>
            </a:r>
            <a:br>
              <a:rPr sz="4000"/>
            </a:br>
            <a:r>
              <a:rPr b="0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(Formeln und Beiwerte auf Handzettel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"/>
          <p:cNvSpPr/>
          <p:nvPr/>
        </p:nvSpPr>
        <p:spPr>
          <a:xfrm>
            <a:off x="785880" y="1714680"/>
            <a:ext cx="7786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ie Matheaufgaben sind in den einzelnen Gruppen zu berechnen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1. Aufgabe zur Bestimmung des Abgasverluste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in mit Erdgas befeuerter Gas-Heizkessel mit einer Nennwärmeleistung von 35kW weist die folgenden Messwerte auf: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210°C, 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 Gehalt 9,0% , Verbrennungslufttemp. -10°C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e groß ist der Abgasverlus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feld 1"/>
          <p:cNvSpPr/>
          <p:nvPr/>
        </p:nvSpPr>
        <p:spPr>
          <a:xfrm>
            <a:off x="785880" y="357120"/>
            <a:ext cx="7715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2.Aufgabe zur Berechnung des Wirkungsgrades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stimmen Sie den feuerungstechnischen Wirkungsgrad eines Gas- Brennwertkessels (Erdgas E) 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wenn 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Abgastemperatur 55°C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Verbrennungslufttemperatur 20°C 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und</a:t>
            </a:r>
            <a:br>
              <a:rPr sz="2400"/>
            </a:b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der gemessene 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-Gehalt 10% </a:t>
            </a: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betrage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Grafik 2" descr="fragezeichen300.jpg"/>
          <p:cNvPicPr/>
          <p:nvPr/>
        </p:nvPicPr>
        <p:blipFill>
          <a:blip r:embed="rId1"/>
          <a:stretch/>
        </p:blipFill>
        <p:spPr>
          <a:xfrm>
            <a:off x="3000240" y="264312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feld 3"/>
          <p:cNvSpPr/>
          <p:nvPr/>
        </p:nvSpPr>
        <p:spPr>
          <a:xfrm>
            <a:off x="1143000" y="1714680"/>
            <a:ext cx="735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Zentralheizungs- und Lüftungs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ehrbuch: Der Sanitärinstal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rennwert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e.wikipedia.org/wiki/Brennwertke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ollbrennwerttechnik.de/home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oogle.de (Bi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70c0"/>
                </a:solidFill>
                <a:latin typeface="Calibri"/>
              </a:rPr>
              <a:t>Danke für eure Aufmerksam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2" descr="danke-1.jpg"/>
          <p:cNvPicPr/>
          <p:nvPr/>
        </p:nvPicPr>
        <p:blipFill>
          <a:blip r:embed="rId1"/>
          <a:stretch/>
        </p:blipFill>
        <p:spPr>
          <a:xfrm rot="292800">
            <a:off x="2500200" y="2428560"/>
            <a:ext cx="41911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3"/>
          <p:cNvSpPr/>
          <p:nvPr/>
        </p:nvSpPr>
        <p:spPr>
          <a:xfrm>
            <a:off x="285840" y="121428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geräte sind durch ihre </a:t>
            </a:r>
            <a:r>
              <a:rPr b="0" i="1" lang="de-DE" sz="2800" spc="-1" strike="noStrike" u="sng">
                <a:solidFill>
                  <a:srgbClr val="ff0000"/>
                </a:solidFill>
                <a:uFillTx/>
                <a:latin typeface="Calibri"/>
              </a:rPr>
              <a:t>über 100%</a:t>
            </a:r>
            <a:r>
              <a:rPr b="0" i="1" lang="de-DE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roß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Wirkungsgrade immer mehr im Gespräch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Name „Brennwertgerät“ leitet sich 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Brennwert der Gase ab, bei dem, im Gegensatz 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Heizwert, auch die latente Wärme des Wasserdamp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genutzt wird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Erfinder der Brennwerttechnik ist Richard Vetter,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zunächst Gas-Brennwertgeräte entwickelte und dann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1984 auch Öl-Brennwertanl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feld 4"/>
          <p:cNvSpPr/>
          <p:nvPr/>
        </p:nvSpPr>
        <p:spPr>
          <a:xfrm>
            <a:off x="214200" y="214200"/>
            <a:ext cx="871560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Was ist Brennwerttechnik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utzung der Abgaswärme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über spezielle Wärmetauscher werden Ab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ekühl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Kondensation des im Abgas enthal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serdampfes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Die latente Wärme wird als zusätz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energie genutz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"/>
          <p:cNvSpPr/>
          <p:nvPr/>
        </p:nvSpPr>
        <p:spPr>
          <a:xfrm>
            <a:off x="428760" y="857160"/>
            <a:ext cx="8358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gasverluste werden minimie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ärmeverluste sind ger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ächtliche Energieeinsparu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mweltschonender als Heizgerä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kungsgrade übe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afik 3" descr="abgasmessgeraete.jpg"/>
          <p:cNvPicPr/>
          <p:nvPr/>
        </p:nvPicPr>
        <p:blipFill>
          <a:blip r:embed="rId1"/>
          <a:stretch/>
        </p:blipFill>
        <p:spPr>
          <a:xfrm rot="754200">
            <a:off x="7478280" y="2437920"/>
            <a:ext cx="1027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Vorteile gegenüber normalen Heiz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brennwertdiag_1.jpg"/>
          <p:cNvPicPr/>
          <p:nvPr/>
        </p:nvPicPr>
        <p:blipFill>
          <a:blip r:embed="rId1"/>
          <a:stretch/>
        </p:blipFill>
        <p:spPr>
          <a:xfrm>
            <a:off x="785880" y="1285920"/>
            <a:ext cx="754200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brennwertdiag_2.jpg"/>
          <p:cNvPicPr/>
          <p:nvPr/>
        </p:nvPicPr>
        <p:blipFill>
          <a:blip r:embed="rId2"/>
          <a:stretch/>
        </p:blipFill>
        <p:spPr>
          <a:xfrm>
            <a:off x="785880" y="4000680"/>
            <a:ext cx="75009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000000"/>
                </a:solidFill>
                <a:uFillTx/>
                <a:latin typeface="Calibri"/>
              </a:rPr>
              <a:t>Nachteile von Brennwertgerä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kondensatpumpe1.gif"/>
          <p:cNvPicPr/>
          <p:nvPr/>
        </p:nvPicPr>
        <p:blipFill>
          <a:blip r:embed="rId1"/>
          <a:stretch/>
        </p:blipFill>
        <p:spPr>
          <a:xfrm>
            <a:off x="4429080" y="2000160"/>
            <a:ext cx="442908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Textfeld 3"/>
          <p:cNvSpPr/>
          <p:nvPr/>
        </p:nvSpPr>
        <p:spPr>
          <a:xfrm>
            <a:off x="214200" y="1643040"/>
            <a:ext cx="41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ondensatab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(ggf. Neutralisation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inricht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Hohe Korrosion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beständ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es Kesselwerkstof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und des Abgas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Typische Wirkungsgrade im Verglei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1285920"/>
          <a:ext cx="8572320" cy="5357880"/>
        </p:xfrm>
        <a:graphic>
          <a:graphicData uri="http://schemas.openxmlformats.org/drawingml/2006/table">
            <a:tbl>
              <a:tblPr/>
              <a:tblGrid>
                <a:gridCol w="4251240"/>
                <a:gridCol w="43210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t der Energiegewinn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scher Wirkungsgrad in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nnwerttechn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-1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dertemperatur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-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s Standardheizgerä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le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kraftwer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8:30Z</dcterms:created>
  <dc:creator>Jens Riechert</dc:creator>
  <dc:description/>
  <dc:language>en-US</dc:language>
  <cp:lastModifiedBy>Jens Riechert</cp:lastModifiedBy>
  <dcterms:modified xsi:type="dcterms:W3CDTF">2010-05-05T15:16:52Z</dcterms:modified>
  <cp:revision>182</cp:revision>
  <dc:subject/>
  <dc:title>Brennwerttechnik</dc:title>
</cp:coreProperties>
</file>